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BC4-22F2-4BC4-AD45-EC899524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0E2E-F5BF-40C0-9F38-BF220B9F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137-F345-4929-9EC4-58B0B036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B4E-53ED-436B-8FB3-0E512F8D6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676A-6B10-4ECD-B0AC-68D7186A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A54-A743-4B87-BE13-C9A65F25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203-683B-4292-A27D-12182D8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DA13-6EAA-44A8-85A8-CA89BC7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C57D-2F3A-4645-B89F-93365677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070-0166-4230-9C16-BCD5B2F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C1E7-7733-4F8F-8398-FD6CF0BA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808-3E11-42A0-8870-AFC09BDC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10D3-C365-472E-A0FB-DFF685231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 Towel Test La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ember 200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s. Collazo’s Sea Lion Scient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9:20:33Z</dcterms:created>
  <dc:creator>LCSuser</dc:creator>
  <dc:description/>
  <dc:language>en-US</dc:language>
  <cp:lastModifiedBy>LCSuser</cp:lastModifiedBy>
  <dcterms:modified xsi:type="dcterms:W3CDTF">2007-10-03T19:21:09Z</dcterms:modified>
  <cp:revision>1</cp:revision>
  <dc:subject/>
  <dc:title>Paper Towel Test Lab September 2007</dc:title>
</cp:coreProperties>
</file>